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" descr=""/>
          <p:cNvPicPr/>
          <p:nvPr/>
        </p:nvPicPr>
        <p:blipFill>
          <a:blip r:embed="rId1"/>
          <a:stretch/>
        </p:blipFill>
        <p:spPr>
          <a:xfrm>
            <a:off x="2082960" y="1892160"/>
            <a:ext cx="4881240" cy="37371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0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5" name="Picture 7" descr=""/>
          <p:cNvPicPr/>
          <p:nvPr/>
        </p:nvPicPr>
        <p:blipFill>
          <a:blip r:embed="rId2"/>
          <a:stretch/>
        </p:blipFill>
        <p:spPr>
          <a:xfrm>
            <a:off x="2690640" y="2316240"/>
            <a:ext cx="3664080" cy="194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" descr=""/>
          <p:cNvPicPr/>
          <p:nvPr/>
        </p:nvPicPr>
        <p:blipFill>
          <a:blip r:embed="rId3"/>
          <a:stretch/>
        </p:blipFill>
        <p:spPr>
          <a:xfrm>
            <a:off x="3581280" y="942840"/>
            <a:ext cx="6148440" cy="86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2649600" y="1292400"/>
            <a:ext cx="37688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Relativ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8" name="Title 1"/>
          <p:cNvSpPr/>
          <p:nvPr/>
        </p:nvSpPr>
        <p:spPr>
          <a:xfrm>
            <a:off x="457200" y="2470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ess was going to a fancy dress party. </a:t>
            </a: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She was dressed as Batma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Rounded Rectangle 11"/>
          <p:cNvSpPr/>
          <p:nvPr/>
        </p:nvSpPr>
        <p:spPr>
          <a:xfrm>
            <a:off x="917640" y="14731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Relative clause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giv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extra informa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related to a previously mention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nou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pronou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within a sentence. A relative clause always starts with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relative pronou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457200" y="43401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Jess, </a:t>
            </a:r>
            <a:r>
              <a:rPr b="1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o was dressed as Batman,</a:t>
            </a:r>
            <a:br>
              <a:rPr sz="2800"/>
            </a:b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was going to a fancy dress party. 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712800" y="3575160"/>
            <a:ext cx="77090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e second sentence adds some extra information about the noun in the first sentence so we can turn it into a relative clause, like this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Title 1"/>
          <p:cNvSpPr/>
          <p:nvPr/>
        </p:nvSpPr>
        <p:spPr>
          <a:xfrm>
            <a:off x="712800" y="5445000"/>
            <a:ext cx="77090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o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s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pronoun 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o this clause of extra information is called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 As this is extra, non-essential (non-restrictive) information we put the clause in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omma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ounded Rectangle 2"/>
          <p:cNvSpPr/>
          <p:nvPr/>
        </p:nvSpPr>
        <p:spPr>
          <a:xfrm>
            <a:off x="655560" y="1473120"/>
            <a:ext cx="782316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relative clause almost always starts with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relative pronou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Other relative pronouns are: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Relativ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655560" y="2467080"/>
            <a:ext cx="7823160" cy="3116160"/>
            <a:chOff x="655560" y="2467080"/>
            <a:chExt cx="7823160" cy="3116160"/>
          </a:xfrm>
        </p:grpSpPr>
        <p:grpSp>
          <p:nvGrpSpPr>
            <p:cNvPr id="636" name="Group 1"/>
            <p:cNvGrpSpPr/>
            <p:nvPr/>
          </p:nvGrpSpPr>
          <p:grpSpPr>
            <a:xfrm>
              <a:off x="655560" y="2467080"/>
              <a:ext cx="7823160" cy="1558080"/>
              <a:chOff x="655560" y="2467080"/>
              <a:chExt cx="7823160" cy="1558080"/>
            </a:xfrm>
          </p:grpSpPr>
          <p:sp>
            <p:nvSpPr>
              <p:cNvPr id="637" name="Oval 69"/>
              <p:cNvSpPr/>
              <p:nvPr/>
            </p:nvSpPr>
            <p:spPr>
              <a:xfrm>
                <a:off x="655560" y="2467080"/>
                <a:ext cx="2203200" cy="155808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ffff"/>
                    </a:solidFill>
                    <a:latin typeface="Sassoon Infant Rg"/>
                  </a:rPr>
                  <a:t>that</a:t>
                </a:r>
                <a:endParaRPr b="0" lang="en-US" sz="3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38" name="Oval 29"/>
              <p:cNvSpPr/>
              <p:nvPr/>
            </p:nvSpPr>
            <p:spPr>
              <a:xfrm>
                <a:off x="3465360" y="2467080"/>
                <a:ext cx="2203200" cy="155808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ffff"/>
                    </a:solidFill>
                    <a:latin typeface="Sassoon Infant Rg"/>
                  </a:rPr>
                  <a:t>whom</a:t>
                </a:r>
                <a:endParaRPr b="0" lang="en-US" sz="3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39" name="Oval 30"/>
              <p:cNvSpPr/>
              <p:nvPr/>
            </p:nvSpPr>
            <p:spPr>
              <a:xfrm>
                <a:off x="6275520" y="2467080"/>
                <a:ext cx="2203200" cy="155808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ffff"/>
                    </a:solidFill>
                    <a:latin typeface="Sassoon Infant Rg"/>
                  </a:rPr>
                  <a:t>whose</a:t>
                </a:r>
                <a:endParaRPr b="0" lang="en-US" sz="3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40" name="Group 32"/>
            <p:cNvGrpSpPr/>
            <p:nvPr/>
          </p:nvGrpSpPr>
          <p:grpSpPr>
            <a:xfrm>
              <a:off x="2059560" y="4025160"/>
              <a:ext cx="5013720" cy="1558080"/>
              <a:chOff x="2059560" y="4025160"/>
              <a:chExt cx="5013720" cy="1558080"/>
            </a:xfrm>
          </p:grpSpPr>
          <p:sp>
            <p:nvSpPr>
              <p:cNvPr id="641" name="Oval 33"/>
              <p:cNvSpPr/>
              <p:nvPr/>
            </p:nvSpPr>
            <p:spPr>
              <a:xfrm>
                <a:off x="2059560" y="4025160"/>
                <a:ext cx="2204640" cy="155808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ffff"/>
                    </a:solidFill>
                    <a:latin typeface="Sassoon Infant Rg"/>
                  </a:rPr>
                  <a:t>who</a:t>
                </a:r>
                <a:endParaRPr b="0" lang="en-US" sz="3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42" name="Oval 34"/>
              <p:cNvSpPr/>
              <p:nvPr/>
            </p:nvSpPr>
            <p:spPr>
              <a:xfrm>
                <a:off x="4868640" y="4025160"/>
                <a:ext cx="2204640" cy="155808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ffff"/>
                    </a:solidFill>
                    <a:latin typeface="Sassoon Infant Rg"/>
                  </a:rPr>
                  <a:t>which</a:t>
                </a:r>
                <a:endParaRPr b="0" lang="en-US" sz="3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</p:grpSp>
      <p:pic>
        <p:nvPicPr>
          <p:cNvPr id="643" name="Picture 25" descr=""/>
          <p:cNvPicPr/>
          <p:nvPr/>
        </p:nvPicPr>
        <p:blipFill>
          <a:blip r:embed="rId1"/>
          <a:stretch/>
        </p:blipFill>
        <p:spPr>
          <a:xfrm>
            <a:off x="6465960" y="4468680"/>
            <a:ext cx="16398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Rounded Rectangle 18"/>
          <p:cNvSpPr/>
          <p:nvPr/>
        </p:nvSpPr>
        <p:spPr>
          <a:xfrm>
            <a:off x="1355760" y="1969920"/>
            <a:ext cx="6413400" cy="7588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n all of the sentences we’ve looked at so far, the relative clauses hav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lways been in th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iddl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f the main clause 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6" name="Title 1"/>
          <p:cNvSpPr/>
          <p:nvPr/>
        </p:nvSpPr>
        <p:spPr>
          <a:xfrm>
            <a:off x="457200" y="3370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25 Maple Street, which has been up for sale for years, is apparently haunted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 ghost, whose name is Mr. Stonegarden, roams the corridor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estate agent, who badly needs a sale, is frightened to show people around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Relativ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48" name="Rounded Rectangle 12"/>
          <p:cNvSpPr/>
          <p:nvPr/>
        </p:nvSpPr>
        <p:spPr>
          <a:xfrm>
            <a:off x="1812960" y="5003640"/>
            <a:ext cx="5956200" cy="1001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y were all embedded* inside the main clause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refore, we could also call them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embedded relative clause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However, relative clauses don’t always have to be embedded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157320" y="4363920"/>
            <a:ext cx="1457280" cy="2408400"/>
          </a:xfrm>
          <a:prstGeom prst="rect">
            <a:avLst/>
          </a:prstGeom>
          <a:ln w="0">
            <a:noFill/>
          </a:ln>
        </p:spPr>
      </p:pic>
      <p:sp>
        <p:nvSpPr>
          <p:cNvPr id="650" name="Title 1"/>
          <p:cNvSpPr/>
          <p:nvPr/>
        </p:nvSpPr>
        <p:spPr>
          <a:xfrm>
            <a:off x="460440" y="336708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25 Maple Street, </a:t>
            </a:r>
            <a:r>
              <a:rPr b="0" lang="en-GB" sz="1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ich has been up for sale for years, </a:t>
            </a: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s apparently haunted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 ghost, </a:t>
            </a:r>
            <a:r>
              <a:rPr b="0" lang="en-GB" sz="1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ose name is Mr. Stonegarden,</a:t>
            </a:r>
            <a:r>
              <a:rPr b="0" lang="en-GB" sz="16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roams the corridor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estate agent, </a:t>
            </a:r>
            <a:r>
              <a:rPr b="0" lang="en-GB" sz="1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o badly needs a sale, </a:t>
            </a:r>
            <a:r>
              <a:rPr b="0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s frightened to show people around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1" name="Rectangle 1"/>
          <p:cNvSpPr/>
          <p:nvPr/>
        </p:nvSpPr>
        <p:spPr>
          <a:xfrm>
            <a:off x="7164720" y="606744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*in the middle of</a:t>
            </a:r>
            <a:endParaRPr b="0" lang="en-US" sz="1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3" name="Rounded Rectangle 18"/>
          <p:cNvSpPr/>
          <p:nvPr/>
        </p:nvSpPr>
        <p:spPr>
          <a:xfrm>
            <a:off x="1096920" y="1969920"/>
            <a:ext cx="6931080" cy="5032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Look at this sentence. Where is the relative clause now? How do you know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4" name="Title 1"/>
          <p:cNvSpPr/>
          <p:nvPr/>
        </p:nvSpPr>
        <p:spPr>
          <a:xfrm>
            <a:off x="457200" y="310356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children all did well in the spelling test,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ich made their teacher smil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Relativ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6" name="Title 1"/>
          <p:cNvSpPr/>
          <p:nvPr/>
        </p:nvSpPr>
        <p:spPr>
          <a:xfrm>
            <a:off x="932040" y="4856040"/>
            <a:ext cx="6149880" cy="11448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ich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s the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pronoun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so this time the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s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after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the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ain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 We still need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omma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before the relative clause as this is also extra, non-essential (non-restrictive) information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57" name="Picture 1" descr=""/>
          <p:cNvPicPr/>
          <p:nvPr/>
        </p:nvPicPr>
        <p:blipFill>
          <a:blip r:embed="rId1"/>
          <a:stretch/>
        </p:blipFill>
        <p:spPr>
          <a:xfrm rot="345600">
            <a:off x="7054560" y="4187880"/>
            <a:ext cx="1149120" cy="1150920"/>
          </a:xfrm>
          <a:prstGeom prst="rect">
            <a:avLst/>
          </a:prstGeom>
          <a:ln w="0">
            <a:noFill/>
          </a:ln>
        </p:spPr>
      </p:pic>
      <p:sp>
        <p:nvSpPr>
          <p:cNvPr id="658" name="Title 1"/>
          <p:cNvSpPr/>
          <p:nvPr/>
        </p:nvSpPr>
        <p:spPr>
          <a:xfrm>
            <a:off x="457200" y="31100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hildren all did well in the spelling test,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ich made their teacher smil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itle 1"/>
          <p:cNvSpPr/>
          <p:nvPr/>
        </p:nvSpPr>
        <p:spPr>
          <a:xfrm>
            <a:off x="457200" y="25099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book that I bought yesterday cost me five pound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1192320" y="3503520"/>
            <a:ext cx="6750000" cy="13701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at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s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pronoun 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o this is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 This time the information in the extra clause is essential (restrictive) to the meaning</a:t>
            </a:r>
            <a:br>
              <a:rPr sz="1600"/>
            </a:b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of the sentence so therefore we don’t need to use commas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Here’s another example of a restrictive relative clause: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Relative Clauses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2" name="Rounded Rectangle 18"/>
          <p:cNvSpPr/>
          <p:nvPr/>
        </p:nvSpPr>
        <p:spPr>
          <a:xfrm>
            <a:off x="917640" y="1473120"/>
            <a:ext cx="7299360" cy="95256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Relative clauses can b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non-restrictiv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(not essential to the meaning of the sentence)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restrictiv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(essential to the meaning of the sentence)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Here is a restrictive relative clause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3" name="Title 1"/>
          <p:cNvSpPr/>
          <p:nvPr/>
        </p:nvSpPr>
        <p:spPr>
          <a:xfrm>
            <a:off x="457200" y="495936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distraught teacher threw the test papers that were full of mistakes up in the air that were full of mistak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7942320" y="5184720"/>
            <a:ext cx="1297080" cy="1709640"/>
          </a:xfrm>
          <a:prstGeom prst="rect">
            <a:avLst/>
          </a:prstGeom>
          <a:ln w="0">
            <a:noFill/>
          </a:ln>
        </p:spPr>
      </p:pic>
      <p:sp>
        <p:nvSpPr>
          <p:cNvPr id="665" name="Title 1"/>
          <p:cNvSpPr/>
          <p:nvPr/>
        </p:nvSpPr>
        <p:spPr>
          <a:xfrm>
            <a:off x="457200" y="25099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book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that I bought yesterday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cost me five pound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6" name="Title 1"/>
          <p:cNvSpPr/>
          <p:nvPr/>
        </p:nvSpPr>
        <p:spPr>
          <a:xfrm>
            <a:off x="457200" y="495936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distraught teacher threw the test papers that were full of mistakes up in the air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that were full of mistak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Tick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two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boxes to show which of the words in the sentence below are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relative pronoun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755640" y="353844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assoon Infant Rg"/>
              </a:rPr>
              <a:t>The plumber, who arrived late, had forgotten to bring his plunger, which meant he was unable to unblock our sink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2792520" y="2681280"/>
            <a:ext cx="511200" cy="857520"/>
            <a:chOff x="2792520" y="2681280"/>
            <a:chExt cx="511200" cy="857520"/>
          </a:xfrm>
        </p:grpSpPr>
        <p:cxnSp>
          <p:nvCxnSpPr>
            <p:cNvPr id="671" name="Straight Arrow Connector 4"/>
            <p:cNvCxnSpPr/>
            <p:nvPr/>
          </p:nvCxnSpPr>
          <p:spPr>
            <a:xfrm>
              <a:off x="3047760" y="3181320"/>
              <a:ext cx="1080" cy="357840"/>
            </a:xfrm>
            <a:prstGeom prst="straightConnector1">
              <a:avLst/>
            </a:prstGeom>
            <a:ln w="540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72" name="Rectangle 5"/>
            <p:cNvSpPr/>
            <p:nvPr/>
          </p:nvSpPr>
          <p:spPr>
            <a:xfrm>
              <a:off x="2792520" y="2681280"/>
              <a:ext cx="511200" cy="51120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73" name="Group 12"/>
          <p:cNvGrpSpPr/>
          <p:nvPr/>
        </p:nvGrpSpPr>
        <p:grpSpPr>
          <a:xfrm>
            <a:off x="7620120" y="2681280"/>
            <a:ext cx="511200" cy="857520"/>
            <a:chOff x="7620120" y="2681280"/>
            <a:chExt cx="511200" cy="857520"/>
          </a:xfrm>
        </p:grpSpPr>
        <p:cxnSp>
          <p:nvCxnSpPr>
            <p:cNvPr id="674" name="Straight Arrow Connector 13"/>
            <p:cNvCxnSpPr/>
            <p:nvPr/>
          </p:nvCxnSpPr>
          <p:spPr>
            <a:xfrm>
              <a:off x="7875360" y="3181320"/>
              <a:ext cx="1080" cy="357840"/>
            </a:xfrm>
            <a:prstGeom prst="straightConnector1">
              <a:avLst/>
            </a:prstGeom>
            <a:ln w="540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75" name="Rectangle 14"/>
            <p:cNvSpPr/>
            <p:nvPr/>
          </p:nvSpPr>
          <p:spPr>
            <a:xfrm>
              <a:off x="7620120" y="2681280"/>
              <a:ext cx="511200" cy="51120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76" name="Group 15"/>
          <p:cNvGrpSpPr/>
          <p:nvPr/>
        </p:nvGrpSpPr>
        <p:grpSpPr>
          <a:xfrm>
            <a:off x="2878200" y="4182840"/>
            <a:ext cx="511200" cy="855720"/>
            <a:chOff x="2878200" y="4182840"/>
            <a:chExt cx="511200" cy="855720"/>
          </a:xfrm>
        </p:grpSpPr>
        <p:cxnSp>
          <p:nvCxnSpPr>
            <p:cNvPr id="677" name="Straight Arrow Connector 16"/>
            <p:cNvCxnSpPr/>
            <p:nvPr/>
          </p:nvCxnSpPr>
          <p:spPr>
            <a:xfrm flipH="1" flipV="1">
              <a:off x="3133440" y="4182840"/>
              <a:ext cx="1080" cy="360000"/>
            </a:xfrm>
            <a:prstGeom prst="straightConnector1">
              <a:avLst/>
            </a:prstGeom>
            <a:ln w="540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78" name="Rectangle 17"/>
            <p:cNvSpPr/>
            <p:nvPr/>
          </p:nvSpPr>
          <p:spPr>
            <a:xfrm rot="10800000">
              <a:off x="2878200" y="4523400"/>
              <a:ext cx="511200" cy="51516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79" name="Group 18"/>
          <p:cNvGrpSpPr/>
          <p:nvPr/>
        </p:nvGrpSpPr>
        <p:grpSpPr>
          <a:xfrm>
            <a:off x="6985080" y="4182840"/>
            <a:ext cx="511200" cy="855720"/>
            <a:chOff x="6985080" y="4182840"/>
            <a:chExt cx="511200" cy="855720"/>
          </a:xfrm>
        </p:grpSpPr>
        <p:cxnSp>
          <p:nvCxnSpPr>
            <p:cNvPr id="680" name="Straight Arrow Connector 19"/>
            <p:cNvCxnSpPr/>
            <p:nvPr/>
          </p:nvCxnSpPr>
          <p:spPr>
            <a:xfrm flipH="1" flipV="1">
              <a:off x="7240320" y="4182840"/>
              <a:ext cx="1080" cy="360000"/>
            </a:xfrm>
            <a:prstGeom prst="straightConnector1">
              <a:avLst/>
            </a:prstGeom>
            <a:ln w="540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81" name="Rectangle 20"/>
            <p:cNvSpPr/>
            <p:nvPr/>
          </p:nvSpPr>
          <p:spPr>
            <a:xfrm rot="10800000">
              <a:off x="6985080" y="4523400"/>
              <a:ext cx="511200" cy="51516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682" name="Picture 8" descr=""/>
          <p:cNvPicPr/>
          <p:nvPr/>
        </p:nvPicPr>
        <p:blipFill>
          <a:blip r:embed="rId1"/>
          <a:stretch/>
        </p:blipFill>
        <p:spPr>
          <a:xfrm>
            <a:off x="2878200" y="264168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1" descr=""/>
          <p:cNvPicPr/>
          <p:nvPr/>
        </p:nvPicPr>
        <p:blipFill>
          <a:blip r:embed="rId2"/>
          <a:stretch/>
        </p:blipFill>
        <p:spPr>
          <a:xfrm>
            <a:off x="2897280" y="4489560"/>
            <a:ext cx="492120" cy="425520"/>
          </a:xfrm>
          <a:prstGeom prst="rect">
            <a:avLst/>
          </a:prstGeom>
          <a:ln w="0">
            <a:noFill/>
          </a:ln>
        </p:spPr>
      </p:pic>
      <p:sp>
        <p:nvSpPr>
          <p:cNvPr id="684" name="Content Placeholder 2"/>
          <p:cNvSpPr/>
          <p:nvPr/>
        </p:nvSpPr>
        <p:spPr>
          <a:xfrm>
            <a:off x="755640" y="3541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assoon Infant Rg"/>
              </a:rPr>
              <a:t>The plumber, </a:t>
            </a:r>
            <a:r>
              <a:rPr b="1" lang="en-GB" sz="2400" spc="-1" strike="noStrike">
                <a:solidFill>
                  <a:srgbClr val="35cbc2"/>
                </a:solidFill>
                <a:latin typeface="Sassoon Infant Rg"/>
              </a:rPr>
              <a:t>who</a:t>
            </a:r>
            <a:r>
              <a:rPr b="1" lang="en-GB" sz="2400" spc="-1" strike="noStrike">
                <a:solidFill>
                  <a:srgbClr val="ffffff"/>
                </a:solidFill>
                <a:latin typeface="Sassoon Infant Rg"/>
              </a:rPr>
              <a:t> arrived late, had forgotten to bring his plunger, </a:t>
            </a:r>
            <a:r>
              <a:rPr b="1" lang="en-GB" sz="2400" spc="-1" strike="noStrike">
                <a:solidFill>
                  <a:srgbClr val="35cbc2"/>
                </a:solidFill>
                <a:latin typeface="Sassoon Infant Rg"/>
              </a:rPr>
              <a:t>which</a:t>
            </a:r>
            <a:r>
              <a:rPr b="1" lang="en-GB" sz="2400" spc="-1" strike="noStrike">
                <a:solidFill>
                  <a:srgbClr val="ffffff"/>
                </a:solidFill>
                <a:latin typeface="Sassoon Infant Rg"/>
              </a:rPr>
              <a:t> meant he was unable to unblock our sink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Read these two sentences. Rewrite them as one sentence, which contains an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embedded relative clause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7" name="Content Placeholder 2"/>
          <p:cNvSpPr/>
          <p:nvPr/>
        </p:nvSpPr>
        <p:spPr>
          <a:xfrm>
            <a:off x="755640" y="24084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assoon Infant Rg"/>
              </a:rPr>
              <a:t>Tawny owls eat mice and other small mammals. Tawny owls are nocturnal bird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755640" y="3666960"/>
            <a:ext cx="7632720" cy="4384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2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cbc2"/>
                </a:solidFill>
                <a:latin typeface="Sassoon Infant Rg"/>
              </a:rPr>
              <a:t>Tawny owls, which are nocturnal birds, eat mice</a:t>
            </a:r>
            <a:br>
              <a:rPr sz="2800"/>
            </a:br>
            <a:r>
              <a:rPr b="1" lang="en-GB" sz="2800" spc="-1" strike="noStrike">
                <a:solidFill>
                  <a:srgbClr val="35cbc2"/>
                </a:solidFill>
                <a:latin typeface="Sassoon Infant Rg"/>
              </a:rPr>
              <a:t>and other small mammal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Sassoon Infant Rg"/>
              </a:rPr>
              <a:t>or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cbc2"/>
                </a:solidFill>
                <a:latin typeface="Sassoon Infant Rg"/>
              </a:rPr>
              <a:t>Tawny owls, which eat mice and other small mammals, are nocturnal bird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Place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commas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in the following sentences in the correct positions to demarcate the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relative clauses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1" name="Content Placeholder 2"/>
          <p:cNvSpPr/>
          <p:nvPr/>
        </p:nvSpPr>
        <p:spPr>
          <a:xfrm>
            <a:off x="1044720" y="2354400"/>
            <a:ext cx="7632720" cy="41608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 Infant Rg"/>
              </a:rPr>
              <a:t>Leo who is very sporty enjoys PE lessons.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 Infant Rg"/>
              </a:rPr>
              <a:t>The pet ambulance rushed to the injured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Sassoon Infant Rg"/>
              </a:rPr>
              <a:t>dog which had trapped its paw.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2" name="Content Placeholder 2"/>
          <p:cNvSpPr/>
          <p:nvPr/>
        </p:nvSpPr>
        <p:spPr>
          <a:xfrm>
            <a:off x="1638360" y="2406600"/>
            <a:ext cx="264960" cy="839880"/>
          </a:xfrm>
          <a:custGeom>
            <a:avLst/>
            <a:gdLst>
              <a:gd name="textAreaLeft" fmla="*/ 1800 w 264960"/>
              <a:gd name="textAreaRight" fmla="*/ 263160 w 264960"/>
              <a:gd name="textAreaTop" fmla="*/ 1800 h 839880"/>
              <a:gd name="textAreaBottom" fmla="*/ 838080 h 839880"/>
            </a:gdLst>
            <a:ahLst/>
            <a:rect l="textAreaLeft" t="textAreaTop" r="textAreaRight" b="textAreaBottom"/>
            <a:pathLst>
              <a:path w="21600" h="68405">
                <a:moveTo>
                  <a:pt x="558" y="0"/>
                </a:moveTo>
                <a:arcTo wR="558" hR="558" stAng="16200000" swAng="-5400000"/>
                <a:lnTo>
                  <a:pt x="0" y="67847"/>
                </a:lnTo>
                <a:arcTo wR="558" hR="558" stAng="10800000" swAng="-5400000"/>
                <a:lnTo>
                  <a:pt x="21042" y="68405"/>
                </a:lnTo>
                <a:arcTo wR="558" hR="558" stAng="5400000" swAng="-5400000"/>
                <a:lnTo>
                  <a:pt x="21600" y="558"/>
                </a:lnTo>
                <a:arcTo wR="558" hR="55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cbc2"/>
                </a:solidFill>
                <a:latin typeface="Sassoon Infant Md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3" name="Content Placeholder 2"/>
          <p:cNvSpPr/>
          <p:nvPr/>
        </p:nvSpPr>
        <p:spPr>
          <a:xfrm>
            <a:off x="4808520" y="2406600"/>
            <a:ext cx="266760" cy="839880"/>
          </a:xfrm>
          <a:custGeom>
            <a:avLst/>
            <a:gdLst>
              <a:gd name="textAreaLeft" fmla="*/ 1800 w 266760"/>
              <a:gd name="textAreaRight" fmla="*/ 264960 w 266760"/>
              <a:gd name="textAreaTop" fmla="*/ 1800 h 839880"/>
              <a:gd name="textAreaBottom" fmla="*/ 838080 h 839880"/>
            </a:gdLst>
            <a:ahLst/>
            <a:rect l="textAreaLeft" t="textAreaTop" r="textAreaRight" b="textAreaBottom"/>
            <a:pathLst>
              <a:path w="21600" h="67944">
                <a:moveTo>
                  <a:pt x="558" y="0"/>
                </a:moveTo>
                <a:arcTo wR="558" hR="558" stAng="16200000" swAng="-5400000"/>
                <a:lnTo>
                  <a:pt x="0" y="67386"/>
                </a:lnTo>
                <a:arcTo wR="558" hR="558" stAng="10800000" swAng="-5400000"/>
                <a:lnTo>
                  <a:pt x="21042" y="67944"/>
                </a:lnTo>
                <a:arcTo wR="558" hR="558" stAng="5400000" swAng="-5400000"/>
                <a:lnTo>
                  <a:pt x="21600" y="558"/>
                </a:lnTo>
                <a:arcTo wR="558" hR="55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cbc2"/>
                </a:solidFill>
                <a:latin typeface="Sassoon Infant Md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4" name="Content Placeholder 2"/>
          <p:cNvSpPr/>
          <p:nvPr/>
        </p:nvSpPr>
        <p:spPr>
          <a:xfrm>
            <a:off x="1695600" y="4853160"/>
            <a:ext cx="264960" cy="839520"/>
          </a:xfrm>
          <a:custGeom>
            <a:avLst/>
            <a:gdLst>
              <a:gd name="textAreaLeft" fmla="*/ 1800 w 264960"/>
              <a:gd name="textAreaRight" fmla="*/ 263160 w 264960"/>
              <a:gd name="textAreaTop" fmla="*/ 1800 h 839520"/>
              <a:gd name="textAreaBottom" fmla="*/ 837720 h 839520"/>
            </a:gdLst>
            <a:ahLst/>
            <a:rect l="textAreaLeft" t="textAreaTop" r="textAreaRight" b="textAreaBottom"/>
            <a:pathLst>
              <a:path w="21600" h="68376">
                <a:moveTo>
                  <a:pt x="558" y="0"/>
                </a:moveTo>
                <a:arcTo wR="558" hR="558" stAng="16200000" swAng="-5400000"/>
                <a:lnTo>
                  <a:pt x="0" y="67818"/>
                </a:lnTo>
                <a:arcTo wR="558" hR="558" stAng="10800000" swAng="-5400000"/>
                <a:lnTo>
                  <a:pt x="21042" y="68376"/>
                </a:lnTo>
                <a:arcTo wR="558" hR="558" stAng="5400000" swAng="-5400000"/>
                <a:lnTo>
                  <a:pt x="21600" y="558"/>
                </a:lnTo>
                <a:arcTo wR="558" hR="55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cbc2"/>
                </a:solidFill>
                <a:latin typeface="Sassoon Infant Md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Monique Davis</cp:lastModifiedBy>
  <dcterms:modified xsi:type="dcterms:W3CDTF">2018-05-14T00:33:09Z</dcterms:modified>
  <cp:revision>159</cp:revision>
  <dc:subject/>
  <dc:title>Geography</dc:title>
</cp:coreProperties>
</file>